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F4A-BA82-425B-8115-45B98BA5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EAF-10E5-4DA4-8933-34A20B6B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EA8-2D1D-4C8D-878E-EECCF53E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544-26A2-47BD-AED1-32D5377F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2D6-7F5E-41AC-8392-E7D79D54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3DA-EF9B-4007-8444-EE43FE35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19F-0D7A-4289-808D-FC7FD4D8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9E3-4457-48BA-8C21-0A25987B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952-CBFC-4E26-A742-9376BF30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C52-9593-4E23-90D9-2AB9EAC4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0E5-23FF-4E54-98FF-D2981317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0A1-E96B-4448-A4F7-0F60913D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88E65-9EC9-4565-8EE2-41C20A6D1C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2C18F-01EB-420E-9B20-BB5042BB0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hil Engl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601640" y="1371600"/>
            <a:ext cx="6350040" cy="4064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387600" y="126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很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51460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9"/>
          <p:cNvGrpSpPr/>
          <p:nvPr/>
        </p:nvGrpSpPr>
        <p:grpSpPr>
          <a:xfrm>
            <a:off x="357120" y="2062080"/>
            <a:ext cx="4037040" cy="3684600"/>
            <a:chOff x="357120" y="2062080"/>
            <a:chExt cx="4037040" cy="3684600"/>
          </a:xfrm>
        </p:grpSpPr>
        <p:pic>
          <p:nvPicPr>
            <p:cNvPr id="98" name="Picture 3" descr=""/>
            <p:cNvPicPr/>
            <p:nvPr/>
          </p:nvPicPr>
          <p:blipFill>
            <a:blip r:embed="rId1"/>
            <a:stretch/>
          </p:blipFill>
          <p:spPr>
            <a:xfrm>
              <a:off x="357120" y="2062080"/>
              <a:ext cx="246240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" descr=""/>
            <p:cNvPicPr/>
            <p:nvPr/>
          </p:nvPicPr>
          <p:blipFill>
            <a:blip r:embed="rId2"/>
            <a:stretch/>
          </p:blipFill>
          <p:spPr>
            <a:xfrm>
              <a:off x="2819520" y="2209680"/>
              <a:ext cx="1574640" cy="15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" descr=""/>
            <p:cNvPicPr/>
            <p:nvPr/>
          </p:nvPicPr>
          <p:blipFill>
            <a:blip r:embed="rId3"/>
            <a:stretch/>
          </p:blipFill>
          <p:spPr>
            <a:xfrm>
              <a:off x="1295280" y="3666960"/>
              <a:ext cx="2432160" cy="207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Oval Callout 6"/>
          <p:cNvSpPr/>
          <p:nvPr/>
        </p:nvSpPr>
        <p:spPr>
          <a:xfrm>
            <a:off x="5181480" y="914400"/>
            <a:ext cx="4267440" cy="3809880"/>
          </a:xfrm>
          <a:prstGeom prst="wedgeEllipseCallout">
            <a:avLst>
              <a:gd name="adj1" fmla="val -89245"/>
              <a:gd name="adj2" fmla="val 16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7620120" y="2674800"/>
            <a:ext cx="1371600" cy="119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5"/>
          <a:stretch/>
        </p:blipFill>
        <p:spPr>
          <a:xfrm>
            <a:off x="5867280" y="1547640"/>
            <a:ext cx="1752840" cy="2319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640800" y="3636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持它大狗说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Fireb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你是太小狗。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394160" y="4952880"/>
            <a:ext cx="32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ther big dogs said, “Fireball you are too small dog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19320" y="923760"/>
            <a:ext cx="6984720" cy="50803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1974960" y="-176040"/>
            <a:ext cx="5340240" cy="1103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1828800" y="6324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was s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2600" y="838080"/>
            <a:ext cx="5079960" cy="3936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676320" y="0"/>
            <a:ext cx="222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一天一直小人猴子攻击穿集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552760" y="3200400"/>
            <a:ext cx="4444920" cy="3352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5562720" y="12952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day an evil monkey attacked the vil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079960" cy="393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2462040" cy="160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6881760" y="3306600"/>
            <a:ext cx="1575000" cy="157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tretch/>
        </p:blipFill>
        <p:spPr>
          <a:xfrm>
            <a:off x="5943600" y="2021040"/>
            <a:ext cx="1504800" cy="1285560"/>
          </a:xfrm>
          <a:prstGeom prst="rect">
            <a:avLst/>
          </a:prstGeom>
          <a:ln w="0">
            <a:noFill/>
          </a:ln>
        </p:spPr>
      </p:pic>
      <p:sp>
        <p:nvSpPr>
          <p:cNvPr id="120" name="Frame 7"/>
          <p:cNvSpPr/>
          <p:nvPr/>
        </p:nvSpPr>
        <p:spPr>
          <a:xfrm>
            <a:off x="4419720" y="1676520"/>
            <a:ext cx="4343400" cy="38098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9"/>
          <p:cNvSpPr/>
          <p:nvPr/>
        </p:nvSpPr>
        <p:spPr>
          <a:xfrm flipH="1">
            <a:off x="5562720" y="2021040"/>
            <a:ext cx="1440" cy="331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1"/>
          <p:cNvSpPr/>
          <p:nvPr/>
        </p:nvSpPr>
        <p:spPr>
          <a:xfrm>
            <a:off x="6095880" y="2021040"/>
            <a:ext cx="76320" cy="3160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13"/>
          <p:cNvSpPr/>
          <p:nvPr/>
        </p:nvSpPr>
        <p:spPr>
          <a:xfrm>
            <a:off x="6553080" y="2021040"/>
            <a:ext cx="152640" cy="331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5"/>
          <p:cNvSpPr/>
          <p:nvPr/>
        </p:nvSpPr>
        <p:spPr>
          <a:xfrm>
            <a:off x="7447680" y="2021040"/>
            <a:ext cx="171720" cy="331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7"/>
          <p:cNvSpPr/>
          <p:nvPr/>
        </p:nvSpPr>
        <p:spPr>
          <a:xfrm>
            <a:off x="7924680" y="2021040"/>
            <a:ext cx="152640" cy="331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9"/>
          <p:cNvSpPr/>
          <p:nvPr/>
        </p:nvSpPr>
        <p:spPr>
          <a:xfrm>
            <a:off x="6881040" y="2021040"/>
            <a:ext cx="204840" cy="3160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3784320" y="0"/>
            <a:ext cx="15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一直小人猴子逮持它大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838080" y="54864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il monkey captured the big do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540480" cy="5638680"/>
          </a:xfrm>
          <a:prstGeom prst="rect">
            <a:avLst/>
          </a:prstGeom>
          <a:ln w="0">
            <a:noFill/>
          </a:ln>
        </p:spPr>
      </p:pic>
      <p:sp>
        <p:nvSpPr>
          <p:cNvPr id="131" name="Oval Callout 5"/>
          <p:cNvSpPr/>
          <p:nvPr/>
        </p:nvSpPr>
        <p:spPr>
          <a:xfrm>
            <a:off x="7543800" y="838080"/>
            <a:ext cx="1828800" cy="762120"/>
          </a:xfrm>
          <a:prstGeom prst="wedgeEllipseCallout">
            <a:avLst>
              <a:gd name="adj1" fmla="val -105587"/>
              <a:gd name="adj2" fmla="val -706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772400" y="1035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506880" y="-85680"/>
            <a:ext cx="86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听到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Help, Hel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7543800" y="2362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heard, “Help Hel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39080" cy="4716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2880720" y="142920"/>
            <a:ext cx="34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590920" y="578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r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350040" cy="4762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3616200" y="-856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也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752480" y="58672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jum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5"/>
          <p:cNvGrpSpPr/>
          <p:nvPr/>
        </p:nvGrpSpPr>
        <p:grpSpPr>
          <a:xfrm>
            <a:off x="380880" y="1725480"/>
            <a:ext cx="8134560" cy="4292640"/>
            <a:chOff x="380880" y="1725480"/>
            <a:chExt cx="8134560" cy="4292640"/>
          </a:xfrm>
        </p:grpSpPr>
        <p:pic>
          <p:nvPicPr>
            <p:cNvPr id="145" name="Picture 3" descr=""/>
            <p:cNvPicPr/>
            <p:nvPr/>
          </p:nvPicPr>
          <p:blipFill>
            <a:blip r:embed="rId1"/>
            <a:stretch/>
          </p:blipFill>
          <p:spPr>
            <a:xfrm>
              <a:off x="2800080" y="1725480"/>
              <a:ext cx="571536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" descr=""/>
            <p:cNvPicPr/>
            <p:nvPr/>
          </p:nvPicPr>
          <p:blipFill>
            <a:blip r:embed="rId2"/>
            <a:srcRect l="0" t="0" r="8119" b="0"/>
            <a:stretch/>
          </p:blipFill>
          <p:spPr>
            <a:xfrm>
              <a:off x="380880" y="2285640"/>
              <a:ext cx="3429000" cy="164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Rectangle 3" descr=""/>
          <p:cNvPicPr/>
          <p:nvPr/>
        </p:nvPicPr>
        <p:blipFill>
          <a:blip r:embed="rId3"/>
          <a:stretch/>
        </p:blipFill>
        <p:spPr>
          <a:xfrm>
            <a:off x="2475000" y="139680"/>
            <a:ext cx="4286160" cy="10922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380880" y="5486400"/>
            <a:ext cx="24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turned into a Ball of  f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Recorded Sound" descr=""/>
          <p:cNvPicPr/>
          <p:nvPr/>
        </p:nvPicPr>
        <p:blipFill>
          <a:blip r:embed="rId4"/>
          <a:stretch/>
        </p:blipFill>
        <p:spPr>
          <a:xfrm>
            <a:off x="563868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"/>
          <p:cNvGrpSpPr/>
          <p:nvPr/>
        </p:nvGrpSpPr>
        <p:grpSpPr>
          <a:xfrm>
            <a:off x="838080" y="1676520"/>
            <a:ext cx="6381720" cy="3276360"/>
            <a:chOff x="838080" y="1676520"/>
            <a:chExt cx="6381720" cy="3276360"/>
          </a:xfrm>
        </p:grpSpPr>
        <p:pic>
          <p:nvPicPr>
            <p:cNvPr id="151" name="Picture 3" descr=""/>
            <p:cNvPicPr/>
            <p:nvPr/>
          </p:nvPicPr>
          <p:blipFill>
            <a:blip r:embed="rId1"/>
            <a:stretch/>
          </p:blipFill>
          <p:spPr>
            <a:xfrm>
              <a:off x="2736000" y="1676520"/>
              <a:ext cx="4483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6" descr=""/>
            <p:cNvPicPr/>
            <p:nvPr/>
          </p:nvPicPr>
          <p:blipFill>
            <a:blip r:embed="rId2"/>
            <a:srcRect l="0" t="0" r="8119" b="0"/>
            <a:stretch/>
          </p:blipFill>
          <p:spPr>
            <a:xfrm>
              <a:off x="838080" y="2104200"/>
              <a:ext cx="2690280" cy="12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5038560" y="2590920"/>
            <a:ext cx="4362480" cy="338112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7" descr=""/>
          <p:cNvPicPr/>
          <p:nvPr/>
        </p:nvPicPr>
        <p:blipFill>
          <a:blip r:embed="rId4"/>
          <a:stretch/>
        </p:blipFill>
        <p:spPr>
          <a:xfrm>
            <a:off x="1749600" y="291960"/>
            <a:ext cx="5657760" cy="10922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380880" y="4952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jumped on top of the mon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ecorded Sound" descr=""/>
          <p:cNvPicPr/>
          <p:nvPr/>
        </p:nvPicPr>
        <p:blipFill>
          <a:blip r:embed="rId5"/>
          <a:stretch/>
        </p:blipFill>
        <p:spPr>
          <a:xfrm>
            <a:off x="44197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762800" cy="4140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2427120" y="457200"/>
            <a:ext cx="15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有一个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62940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4364280" cy="3381480"/>
          </a:xfrm>
          <a:prstGeom prst="rect">
            <a:avLst/>
          </a:prstGeom>
          <a:ln w="0">
            <a:noFill/>
          </a:ln>
        </p:spPr>
      </p:pic>
      <p:sp>
        <p:nvSpPr>
          <p:cNvPr id="158" name="Rounded Rectangular Callout 4"/>
          <p:cNvSpPr/>
          <p:nvPr/>
        </p:nvSpPr>
        <p:spPr>
          <a:xfrm>
            <a:off x="5029200" y="1752480"/>
            <a:ext cx="4114800" cy="2362320"/>
          </a:xfrm>
          <a:prstGeom prst="wedgeRoundRectCallout">
            <a:avLst>
              <a:gd name="adj1" fmla="val -89125"/>
              <a:gd name="adj2" fmla="val 21902"/>
              <a:gd name="adj3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5659560" y="2209680"/>
            <a:ext cx="24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Rectangle 6" descr=""/>
          <p:cNvPicPr/>
          <p:nvPr/>
        </p:nvPicPr>
        <p:blipFill>
          <a:blip r:embed="rId2"/>
          <a:stretch/>
        </p:blipFill>
        <p:spPr>
          <a:xfrm>
            <a:off x="2328840" y="353880"/>
            <a:ext cx="5400720" cy="1109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99072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key said, “Ou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601640" y="1371600"/>
            <a:ext cx="6350040" cy="406404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2200320" y="281160"/>
            <a:ext cx="4975200" cy="10969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1905120" y="54356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dogs ran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4394160" y="1447920"/>
            <a:ext cx="4762440" cy="4140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357120" y="2062080"/>
            <a:ext cx="4037040" cy="3684600"/>
            <a:chOff x="357120" y="2062080"/>
            <a:chExt cx="4037040" cy="3684600"/>
          </a:xfrm>
        </p:grpSpPr>
        <p:pic>
          <p:nvPicPr>
            <p:cNvPr id="169" name="Picture 3" descr=""/>
            <p:cNvPicPr/>
            <p:nvPr/>
          </p:nvPicPr>
          <p:blipFill>
            <a:blip r:embed="rId2"/>
            <a:stretch/>
          </p:blipFill>
          <p:spPr>
            <a:xfrm>
              <a:off x="357120" y="2062080"/>
              <a:ext cx="246240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" descr=""/>
            <p:cNvPicPr/>
            <p:nvPr/>
          </p:nvPicPr>
          <p:blipFill>
            <a:blip r:embed="rId3"/>
            <a:stretch/>
          </p:blipFill>
          <p:spPr>
            <a:xfrm>
              <a:off x="2819520" y="2209680"/>
              <a:ext cx="1574640" cy="15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" descr=""/>
            <p:cNvPicPr/>
            <p:nvPr/>
          </p:nvPicPr>
          <p:blipFill>
            <a:blip r:embed="rId4"/>
            <a:stretch/>
          </p:blipFill>
          <p:spPr>
            <a:xfrm>
              <a:off x="1295280" y="3666960"/>
              <a:ext cx="2432160" cy="207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Rectangle 8" descr=""/>
          <p:cNvPicPr/>
          <p:nvPr/>
        </p:nvPicPr>
        <p:blipFill>
          <a:blip r:embed="rId5"/>
          <a:stretch/>
        </p:blipFill>
        <p:spPr>
          <a:xfrm>
            <a:off x="60480" y="347760"/>
            <a:ext cx="8785080" cy="11095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4648320" y="5587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now had many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00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762440" cy="414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914400" y="355680"/>
            <a:ext cx="4915080" cy="6502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155840" y="3556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小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77120" y="355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 small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762800" cy="414000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>
            <a:off x="1599840" y="1295280"/>
            <a:ext cx="122004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5" name="TextBox 6"/>
          <p:cNvSpPr/>
          <p:nvPr/>
        </p:nvSpPr>
        <p:spPr>
          <a:xfrm>
            <a:off x="533520" y="685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577320" y="371520"/>
            <a:ext cx="44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叫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80880" y="4191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name was fir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3809880" y="1434960"/>
            <a:ext cx="4762800" cy="41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3218040" cy="2895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3792960" y="3715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一个美国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99072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n American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4762440" cy="41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1082520" y="2631960"/>
            <a:ext cx="1575000" cy="1575000"/>
          </a:xfrm>
          <a:prstGeom prst="rect">
            <a:avLst/>
          </a:prstGeom>
          <a:ln w="0">
            <a:noFill/>
          </a:ln>
        </p:spPr>
      </p:pic>
      <p:sp>
        <p:nvSpPr>
          <p:cNvPr id="66" name="&quot;No&quot; Symbol 5"/>
          <p:cNvSpPr/>
          <p:nvPr/>
        </p:nvSpPr>
        <p:spPr>
          <a:xfrm>
            <a:off x="380880" y="1676520"/>
            <a:ext cx="2971800" cy="34542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569480" y="5238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没有朋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295280" y="586728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d no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7469280" y="2631960"/>
            <a:ext cx="12952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082520" y="2631960"/>
            <a:ext cx="1575000" cy="1575000"/>
          </a:xfrm>
          <a:prstGeom prst="rect">
            <a:avLst/>
          </a:prstGeom>
          <a:ln w="0">
            <a:noFill/>
          </a:ln>
        </p:spPr>
      </p:pic>
      <p:sp>
        <p:nvSpPr>
          <p:cNvPr id="72" name="&quot;No&quot; Symbol 5"/>
          <p:cNvSpPr/>
          <p:nvPr/>
        </p:nvSpPr>
        <p:spPr>
          <a:xfrm>
            <a:off x="533520" y="2209680"/>
            <a:ext cx="2743200" cy="221004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327672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8"/>
          <p:cNvCxnSpPr/>
          <p:nvPr/>
        </p:nvCxnSpPr>
        <p:spPr>
          <a:xfrm flipV="1">
            <a:off x="3886200" y="2437920"/>
            <a:ext cx="838800" cy="194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75" name="Picture 9" descr=""/>
          <p:cNvPicPr/>
          <p:nvPr/>
        </p:nvPicPr>
        <p:blipFill>
          <a:blip r:embed="rId3"/>
          <a:stretch/>
        </p:blipFill>
        <p:spPr>
          <a:xfrm>
            <a:off x="4876920" y="7779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259160" y="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没有朋友应为他是小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3429000" y="44197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d no friends because he was a small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1574640" cy="157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57120" y="2062080"/>
            <a:ext cx="2462400" cy="160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1295280" y="3666960"/>
            <a:ext cx="2432160" cy="207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5562720" y="1905120"/>
            <a:ext cx="2342880" cy="2361960"/>
          </a:xfrm>
          <a:prstGeom prst="rect">
            <a:avLst/>
          </a:prstGeom>
          <a:ln w="0">
            <a:noFill/>
          </a:ln>
        </p:spPr>
      </p:pic>
      <p:cxnSp>
        <p:nvCxnSpPr>
          <p:cNvPr id="83" name="Straight Arrow Connector 8"/>
          <p:cNvCxnSpPr/>
          <p:nvPr/>
        </p:nvCxnSpPr>
        <p:spPr>
          <a:xfrm flipV="1">
            <a:off x="4394160" y="3783960"/>
            <a:ext cx="1169280" cy="254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4" name="Rectangle 6"/>
          <p:cNvSpPr/>
          <p:nvPr/>
        </p:nvSpPr>
        <p:spPr>
          <a:xfrm>
            <a:off x="3469320" y="3808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持它大狗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562720" y="48769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dogs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3810240" cy="4711680"/>
          </a:xfrm>
          <a:prstGeom prst="rect">
            <a:avLst/>
          </a:prstGeom>
          <a:ln w="0">
            <a:noFill/>
          </a:ln>
        </p:spPr>
      </p:pic>
      <p:sp>
        <p:nvSpPr>
          <p:cNvPr id="88" name="Oval Callout 5"/>
          <p:cNvSpPr/>
          <p:nvPr/>
        </p:nvSpPr>
        <p:spPr>
          <a:xfrm>
            <a:off x="4724280" y="4533840"/>
            <a:ext cx="2514600" cy="1752840"/>
          </a:xfrm>
          <a:prstGeom prst="wedgeEllipseCallout">
            <a:avLst>
              <a:gd name="adj1" fmla="val -74125"/>
              <a:gd name="adj2" fmla="val -5790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952880" y="5105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HAHAHAHAH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980760" y="45252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很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108840" y="220968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aug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5:13:28Z</dcterms:created>
  <dc:creator>Jack Englert</dc:creator>
  <dc:description/>
  <dc:language>en-US</dc:language>
  <cp:lastModifiedBy>itsuser</cp:lastModifiedBy>
  <dcterms:modified xsi:type="dcterms:W3CDTF">2009-04-30T15:54:42Z</dcterms:modified>
  <cp:revision>8</cp:revision>
  <dc:subject/>
  <dc:title>Fireball</dc:title>
</cp:coreProperties>
</file>